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2705040" y="17640"/>
            <a:ext cx="6438960" cy="684036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52280" y="1521000"/>
            <a:ext cx="381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eslie Young (SwRI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ill Grundy (Lowell Obs)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Stansberry (Steward Obs), Marc Buie (Sw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228600"/>
            <a:ext cx="3810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patial distribution and evolution of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i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 Tri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292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variation doesn't directly relate to the geologic units identified by McEwen et al. 1990.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29200" y="3565440"/>
            <a:ext cx="4114800" cy="3292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29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variation doesn't directly relate to the geologic units identified by McEwen et al. 1990.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xcellent matches to th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variation can be made from the cap units with a denuded pole.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ther models work well too: including the fringe or not, or assuming detectabl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only where diurnally averaged insolation is below a threshold.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25960" y="3565440"/>
            <a:ext cx="4114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29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consider the atmosphere...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f th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on the winter hemisphere, how can the emissivity be low enough (~0.2) to match Triton's surface pressure (corresponding to a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ce temperature of ~38K)?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f th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</a:t>
            </a: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at the winter pole, why not? Is there a heating affect from an internal heat source?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25960" y="3565440"/>
            <a:ext cx="4114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29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ow much fine-grained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(which is not detectable at 2.15 µm) can we hide on the southern hemisphere?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wide-spread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is diluted in the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argues for "invisible southern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." (For example: mm-sized at the pole and cm-sized at the edge.)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emissivity needed for 38 K is reasonable.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denuded pole shows no obvious signature of the difference in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texture in the Voyager images.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25960" y="3565440"/>
            <a:ext cx="4114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od for thou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(and requests for lab data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ow does the detectability of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depend on whether it is a sublimation or condensation site?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oes the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spectrum in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CO: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differ from that in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ow does the emissivity of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ce depend on CO and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concentrations, the rate of sublimation or condensation, and age?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at are the sticking coefficients of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CO, and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with respect to the various units?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ow do CO and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diffuse through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520"/>
          <a:ext cx="88390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8390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RTF/SpeX spectrum of Trit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verage of 46 nights, 2000-2007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bedrock: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 and 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are non-volatile at Triton's temperatures.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 shows a small variation with longitude (11±2% peak-to-peak), while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shows a no variation (2±2% peak-to-peak)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highly volatile ices: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and CO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6212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the most volatile species on Triton's surface, and so it is the dominant species in Triton's atmosphere, and details of emissivity, th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ce distribution, and albedo controls Triton's surface press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 and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can mix at any ratio, and their vapor pressures are similar, so it is not surprising to see them vary toge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idespread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Rounded MT Bold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(from strong bands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trong bands of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(e.g., 1.65, 1.73 µm) are sensitive to shallow films or to dilute amounts, as well as to higher concentrations.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is widespread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shows some variation, depending on the band (~17±2% peak-to-peak)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does </a:t>
            </a: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peak at the same longitudes as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so th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mixing ratio must vary with location.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ocalized relatively concentrated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Rounded MT Bold"/>
              </a:rPr>
              <a:t>4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(from weak bands &amp; band shifts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ak bands of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(e.g., 0.89 µm) are sensitive to deeper layers or to concentrated amounts.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is "deep"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shows more variation than the "shallow"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(~38±6% peak-to-peak, vs. 15±1% for the 1.65 µm band)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lines shift with wavelength when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a diluted in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. Nearly all of the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on Triton is diluted in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but some pure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(or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with trac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) apparently exists near -120° longitude.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ummary of longitudinal correlati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and CO are strongly correlated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 is weakly anticorrelated with wide-spread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</a:t>
            </a: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correlated with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urer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weakly anti-correlated with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1111" t="0" r="0" b="0"/>
          <a:stretch/>
        </p:blipFill>
        <p:spPr>
          <a:xfrm>
            <a:off x="0" y="3565440"/>
            <a:ext cx="3473280" cy="3127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11111" t="0" r="12887" b="0"/>
          <a:stretch/>
        </p:blipFill>
        <p:spPr>
          <a:xfrm>
            <a:off x="6019920" y="3565440"/>
            <a:ext cx="2970000" cy="312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1111" t="0" r="11111" b="0"/>
          <a:stretch/>
        </p:blipFill>
        <p:spPr>
          <a:xfrm>
            <a:off x="2971800" y="3575160"/>
            <a:ext cx="30430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1111" t="0" r="0" b="0"/>
          <a:stretch/>
        </p:blipFill>
        <p:spPr>
          <a:xfrm>
            <a:off x="0" y="3565440"/>
            <a:ext cx="3473280" cy="3127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11111" t="0" r="12887" b="0"/>
          <a:stretch/>
        </p:blipFill>
        <p:spPr>
          <a:xfrm>
            <a:off x="6019920" y="3565440"/>
            <a:ext cx="2970000" cy="312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11111" t="0" r="11111" b="0"/>
          <a:stretch/>
        </p:blipFill>
        <p:spPr>
          <a:xfrm>
            <a:off x="2971800" y="3575160"/>
            <a:ext cx="3043080" cy="3130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90720" y="304920"/>
            <a:ext cx="4114800" cy="329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rcRect l="11111" t="0" r="0" b="0"/>
          <a:stretch/>
        </p:blipFill>
        <p:spPr>
          <a:xfrm>
            <a:off x="4648320" y="317520"/>
            <a:ext cx="36576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1111" t="0" r="0" b="0"/>
          <a:stretch/>
        </p:blipFill>
        <p:spPr>
          <a:xfrm>
            <a:off x="0" y="3565440"/>
            <a:ext cx="3473280" cy="3127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11111" t="0" r="12887" b="0"/>
          <a:stretch/>
        </p:blipFill>
        <p:spPr>
          <a:xfrm>
            <a:off x="6019920" y="3565440"/>
            <a:ext cx="2970000" cy="3127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11111" t="0" r="11111" b="0"/>
          <a:stretch/>
        </p:blipFill>
        <p:spPr>
          <a:xfrm>
            <a:off x="2971800" y="3575160"/>
            <a:ext cx="304308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990720" y="304920"/>
            <a:ext cx="4114800" cy="329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rcRect l="13045" t="0" r="0" b="0"/>
          <a:stretch/>
        </p:blipFill>
        <p:spPr>
          <a:xfrm>
            <a:off x="4727520" y="317520"/>
            <a:ext cx="35784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6:25:18Z</dcterms:created>
  <dc:creator>Leslie Young</dc:creator>
  <dc:description/>
  <dc:language>en-US</dc:language>
  <cp:lastModifiedBy>Leslie Young</cp:lastModifiedBy>
  <cp:lastPrinted>2008-05-05T16:00:21Z</cp:lastPrinted>
  <dcterms:modified xsi:type="dcterms:W3CDTF">2008-05-05T16:00:23Z</dcterms:modified>
  <cp:revision>93</cp:revision>
  <dc:subject/>
  <dc:title>PowerPoint Presentation</dc:title>
</cp:coreProperties>
</file>